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802A-5743-41BA-A18B-FAF12C4E93C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8979-E08F-44FB-8153-9B5F61555B0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última reunião foi em final de agosto, início de setembro, então temos o andamento de 6 meses de trabalh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oria dos senhores estava presente, então devem se lembrar um pouco do que foi apresen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quela oportunidade, fizemos uma apresentação detalhando um pouco o sistema e seus subsistemas e para cada subsistema apresentamos o estágio de desenvolvimento. Para esta então nós suprimimos a parte que explica os subsistemas e vamos apresentar diretamente os andamentos. Algumas atividades até já foram apresentadas na última reunião, na forma de atividade em andamento, e agora elas aparecem como atividades concluí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9C76-B952-4C24-BE23-0982ED73C41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7D8B-4ED9-4AD8-92C4-8CB7353EDFF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8B7-D7C7-4103-9246-AA0641EDAF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CE16-D925-431A-ACA7-BCC6B395FD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AA37-ED6E-4DCE-98B7-01F1577DD9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385-57E7-4BD7-AF0C-1E2387F1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C78-E048-4923-99CC-0D0A458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1DC-891B-4396-8FEE-35711EC4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0F2-50FB-4D99-8795-60485D91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223-6049-4248-B249-50630306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AF9-7229-46E5-907E-D693892B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F87-7D3F-47E8-90B2-F9D14EF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8CE-50B6-4314-9A6A-DE12CDC3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182-B0BB-4322-A5FF-A1BDDF56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5BC-CC64-4AD4-AB19-A8C681B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52B-AA1B-4ADE-BB25-12CC91C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8B4-E694-47F9-BC27-CEBCE68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4202-0DE6-4745-B777-92EA36EB1DC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8610480" cy="13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504d"/>
                </a:solidFill>
                <a:latin typeface="Calibri"/>
              </a:rPr>
              <a:t>Agência Nacional de Águas</a:t>
            </a:r>
            <a:br>
              <a:rPr sz="2400"/>
            </a:br>
            <a:r>
              <a:rPr b="1" lang="pt-BR" sz="2400" spc="-1" strike="noStrike">
                <a:solidFill>
                  <a:srgbClr val="c0504d"/>
                </a:solidFill>
                <a:latin typeface="Calibri"/>
              </a:rPr>
              <a:t>Superintendência de Gestão da Informação - S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2744640"/>
            <a:ext cx="8353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Sistema Nacional de Informações sobre Recursos Hídricos - SNIR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66760" y="3857760"/>
            <a:ext cx="86104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CNARH – SINCR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>
            <a:alphaModFix amt="6000"/>
          </a:blip>
          <a:stretch/>
        </p:blipFill>
        <p:spPr>
          <a:xfrm>
            <a:off x="3214800" y="1000080"/>
            <a:ext cx="2376360" cy="1631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133880" y="6224760"/>
            <a:ext cx="5010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Maurício Cezar Rebello Cord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NARH - Sincron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6286680" cy="272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214200" y="2771640"/>
            <a:ext cx="6715080" cy="408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95280" y="8431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adastro Simplifi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250920" y="1413000"/>
            <a:ext cx="849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cadastro atual (CNARH completo) é base para a implementação de outros instrumentos de gestão pela ANA: outorga e cobranç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esse motivo, um grande número de dados são solicitadas a serem preenchidas pelo usuário no cadastro completo, que dizem respeito, não somente a ao cadastro, mas aos outros instrumentos de gest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 informações para a implementação dos outros instrumentos, variam de estado para est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esses motivos, a ANA está desenvolvendo o Cadastro Simplificado (CNARH Simplificado), com o seguinte funcion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enchimento somente com dados de cadastro do usuário, com dados de hidrolog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so seja um usuário “não passível de outorga” e em rio de domínio da união, será emitido uma declaração de regular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so seja um usuário “passível de outorga”, em rio de domínio da união o sistema irá direcionar para o preenchimento de outros dados relacionados a outorga, e se for o caso, cobranç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285920" y="0"/>
            <a:ext cx="6500880" cy="485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285920" y="4143240"/>
            <a:ext cx="6500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upo 7"/>
          <p:cNvGrpSpPr/>
          <p:nvPr/>
        </p:nvGrpSpPr>
        <p:grpSpPr>
          <a:xfrm>
            <a:off x="928800" y="0"/>
            <a:ext cx="6929280" cy="6858000"/>
            <a:chOff x="928800" y="0"/>
            <a:chExt cx="6929280" cy="6858000"/>
          </a:xfrm>
        </p:grpSpPr>
        <p:pic>
          <p:nvPicPr>
            <p:cNvPr id="140" name="Picture 2" descr=""/>
            <p:cNvPicPr/>
            <p:nvPr/>
          </p:nvPicPr>
          <p:blipFill>
            <a:blip r:embed="rId1"/>
            <a:stretch/>
          </p:blipFill>
          <p:spPr>
            <a:xfrm>
              <a:off x="928800" y="0"/>
              <a:ext cx="692928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"/>
            <p:cNvPicPr/>
            <p:nvPr/>
          </p:nvPicPr>
          <p:blipFill>
            <a:blip r:embed="rId2"/>
            <a:stretch/>
          </p:blipFill>
          <p:spPr>
            <a:xfrm>
              <a:off x="928800" y="4929120"/>
              <a:ext cx="6929280" cy="19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upo 8"/>
          <p:cNvGrpSpPr/>
          <p:nvPr/>
        </p:nvGrpSpPr>
        <p:grpSpPr>
          <a:xfrm>
            <a:off x="928800" y="0"/>
            <a:ext cx="7358040" cy="6858000"/>
            <a:chOff x="928800" y="0"/>
            <a:chExt cx="7358040" cy="6858000"/>
          </a:xfrm>
        </p:grpSpPr>
        <p:pic>
          <p:nvPicPr>
            <p:cNvPr id="147" name="Picture 2" descr=""/>
            <p:cNvPicPr/>
            <p:nvPr/>
          </p:nvPicPr>
          <p:blipFill>
            <a:blip r:embed="rId1"/>
            <a:stretch/>
          </p:blipFill>
          <p:spPr>
            <a:xfrm>
              <a:off x="928800" y="0"/>
              <a:ext cx="7358040" cy="49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" descr=""/>
            <p:cNvPicPr/>
            <p:nvPr/>
          </p:nvPicPr>
          <p:blipFill>
            <a:blip r:embed="rId2"/>
            <a:stretch/>
          </p:blipFill>
          <p:spPr>
            <a:xfrm>
              <a:off x="928800" y="4714920"/>
              <a:ext cx="735804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"/>
            <p:cNvPicPr/>
            <p:nvPr/>
          </p:nvPicPr>
          <p:blipFill>
            <a:blip r:embed="rId3"/>
            <a:stretch/>
          </p:blipFill>
          <p:spPr>
            <a:xfrm>
              <a:off x="5429520" y="6500880"/>
              <a:ext cx="1500120" cy="15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929280" cy="5214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143000" y="4929120"/>
            <a:ext cx="69292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856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ruturas de dados complexas e bastante heterogên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stemas com diferentes níveis de matur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ceitos diferentes (ex. empreendimento integrado X ponto de capta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95280" y="1071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Dificuldades para integração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o 12"/>
          <p:cNvGrpSpPr/>
          <p:nvPr/>
        </p:nvGrpSpPr>
        <p:grpSpPr>
          <a:xfrm>
            <a:off x="1783440" y="3529080"/>
            <a:ext cx="5299200" cy="3260520"/>
            <a:chOff x="1783440" y="3529080"/>
            <a:chExt cx="5299200" cy="3260520"/>
          </a:xfrm>
        </p:grpSpPr>
        <p:pic>
          <p:nvPicPr>
            <p:cNvPr id="58" name="Picture 5" descr=""/>
            <p:cNvPicPr/>
            <p:nvPr/>
          </p:nvPicPr>
          <p:blipFill>
            <a:blip r:embed="rId2"/>
            <a:stretch/>
          </p:blipFill>
          <p:spPr>
            <a:xfrm>
              <a:off x="2143080" y="3529080"/>
              <a:ext cx="464364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CaixaDeTexto 6"/>
            <p:cNvSpPr/>
            <p:nvPr/>
          </p:nvSpPr>
          <p:spPr>
            <a:xfrm>
              <a:off x="2648520" y="3714480"/>
              <a:ext cx="78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CNAR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aixaDeTexto 7"/>
            <p:cNvSpPr/>
            <p:nvPr/>
          </p:nvSpPr>
          <p:spPr>
            <a:xfrm>
              <a:off x="5355360" y="371448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aixaDeTexto 8"/>
            <p:cNvSpPr/>
            <p:nvPr/>
          </p:nvSpPr>
          <p:spPr>
            <a:xfrm>
              <a:off x="1783440" y="500076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CaixaDeTexto 9"/>
            <p:cNvSpPr/>
            <p:nvPr/>
          </p:nvSpPr>
          <p:spPr>
            <a:xfrm>
              <a:off x="6069960" y="507204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CaixaDeTexto 10"/>
            <p:cNvSpPr/>
            <p:nvPr/>
          </p:nvSpPr>
          <p:spPr>
            <a:xfrm>
              <a:off x="2497680" y="63583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50012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finição do conjunto mínimo de dados a serem integrados (Balanço Hídr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abelecimento de padrão para intercâmbio de d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senvolvimento de aplicativo para sincron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enários disti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95280" y="857160"/>
            <a:ext cx="83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NARH - Sincron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upo 13"/>
          <p:cNvGrpSpPr/>
          <p:nvPr/>
        </p:nvGrpSpPr>
        <p:grpSpPr>
          <a:xfrm>
            <a:off x="2069280" y="3643200"/>
            <a:ext cx="4942080" cy="2981520"/>
            <a:chOff x="2069280" y="3643200"/>
            <a:chExt cx="4942080" cy="2981520"/>
          </a:xfrm>
        </p:grpSpPr>
        <p:pic>
          <p:nvPicPr>
            <p:cNvPr id="68" name="Picture 6" descr=""/>
            <p:cNvPicPr/>
            <p:nvPr/>
          </p:nvPicPr>
          <p:blipFill>
            <a:blip r:embed="rId2"/>
            <a:stretch/>
          </p:blipFill>
          <p:spPr>
            <a:xfrm>
              <a:off x="2457360" y="3643200"/>
              <a:ext cx="422928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CaixaDeTexto 7"/>
            <p:cNvSpPr/>
            <p:nvPr/>
          </p:nvSpPr>
          <p:spPr>
            <a:xfrm>
              <a:off x="2934360" y="3714480"/>
              <a:ext cx="78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CNAR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aixaDeTexto 8"/>
            <p:cNvSpPr/>
            <p:nvPr/>
          </p:nvSpPr>
          <p:spPr>
            <a:xfrm>
              <a:off x="5355720" y="371448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CaixaDeTexto 9"/>
            <p:cNvSpPr/>
            <p:nvPr/>
          </p:nvSpPr>
          <p:spPr>
            <a:xfrm>
              <a:off x="2069280" y="49291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aixaDeTexto 10"/>
            <p:cNvSpPr/>
            <p:nvPr/>
          </p:nvSpPr>
          <p:spPr>
            <a:xfrm>
              <a:off x="5998680" y="49291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aixaDeTexto 11"/>
            <p:cNvSpPr/>
            <p:nvPr/>
          </p:nvSpPr>
          <p:spPr>
            <a:xfrm>
              <a:off x="2712240" y="621540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aixaDeTexto 12"/>
            <p:cNvSpPr/>
            <p:nvPr/>
          </p:nvSpPr>
          <p:spPr>
            <a:xfrm>
              <a:off x="3972600" y="5000760"/>
              <a:ext cx="1198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Padrão X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ixaDeTexto 5"/>
          <p:cNvSpPr/>
          <p:nvPr/>
        </p:nvSpPr>
        <p:spPr>
          <a:xfrm>
            <a:off x="320760" y="2286000"/>
            <a:ext cx="850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ário 1 - Estado utiliza integralmente o CNARH na 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feita uma cópi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gr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s dados do CNARH no estado, com a mesma estrutura de dados do CNARH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partir dessa cópia, estado pode manipular 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ário 2 – Estado utiliza sistema de cadastro próp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junto mínimo de dados para balanço híd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95280" y="1071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NARH - Sincron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1643040"/>
            <a:ext cx="8653320" cy="485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77"/>
          <p:cNvSpPr/>
          <p:nvPr/>
        </p:nvSpPr>
        <p:spPr>
          <a:xfrm>
            <a:off x="1071720" y="85716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isão Unificada CNARH – Sincronismo (Cenári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tilizam o CNARH como Cadastro Esta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ector reto 10"/>
          <p:cNvSpPr/>
          <p:nvPr/>
        </p:nvSpPr>
        <p:spPr>
          <a:xfrm>
            <a:off x="5572080" y="6072120"/>
            <a:ext cx="0" cy="5000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ector reto 8"/>
          <p:cNvSpPr/>
          <p:nvPr/>
        </p:nvSpPr>
        <p:spPr>
          <a:xfrm flipH="1">
            <a:off x="5643360" y="3857760"/>
            <a:ext cx="3143160" cy="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ector reto 14"/>
          <p:cNvSpPr/>
          <p:nvPr/>
        </p:nvSpPr>
        <p:spPr>
          <a:xfrm>
            <a:off x="5572080" y="3643200"/>
            <a:ext cx="0" cy="7146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to 16"/>
          <p:cNvSpPr/>
          <p:nvPr/>
        </p:nvSpPr>
        <p:spPr>
          <a:xfrm>
            <a:off x="5572080" y="1571760"/>
            <a:ext cx="0" cy="571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ector reto 18"/>
          <p:cNvSpPr/>
          <p:nvPr/>
        </p:nvSpPr>
        <p:spPr>
          <a:xfrm>
            <a:off x="5572080" y="5072040"/>
            <a:ext cx="0" cy="2142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ector reto 20"/>
          <p:cNvSpPr/>
          <p:nvPr/>
        </p:nvSpPr>
        <p:spPr>
          <a:xfrm>
            <a:off x="5572080" y="2714760"/>
            <a:ext cx="0" cy="2142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ector reto 21"/>
          <p:cNvSpPr/>
          <p:nvPr/>
        </p:nvSpPr>
        <p:spPr>
          <a:xfrm>
            <a:off x="2928960" y="1643040"/>
            <a:ext cx="0" cy="9288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ector reto 22"/>
          <p:cNvSpPr/>
          <p:nvPr/>
        </p:nvSpPr>
        <p:spPr>
          <a:xfrm>
            <a:off x="2928960" y="5857920"/>
            <a:ext cx="0" cy="78588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ector reto 23"/>
          <p:cNvSpPr/>
          <p:nvPr/>
        </p:nvSpPr>
        <p:spPr>
          <a:xfrm>
            <a:off x="2928960" y="321480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to 24"/>
          <p:cNvSpPr/>
          <p:nvPr/>
        </p:nvSpPr>
        <p:spPr>
          <a:xfrm>
            <a:off x="2928960" y="457200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ângulo 17"/>
          <p:cNvSpPr/>
          <p:nvPr/>
        </p:nvSpPr>
        <p:spPr>
          <a:xfrm>
            <a:off x="7286760" y="4143240"/>
            <a:ext cx="1714320" cy="1857600"/>
          </a:xfrm>
          <a:prstGeom prst="rect">
            <a:avLst/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elató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Sistema de Outo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(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142920" y="1790640"/>
            <a:ext cx="8772480" cy="48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77"/>
          <p:cNvSpPr/>
          <p:nvPr/>
        </p:nvSpPr>
        <p:spPr>
          <a:xfrm>
            <a:off x="1071720" y="7858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isão Unificada CNARH – Sincronismo (Cenári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ão utiliza o CNARH como Cadastro Estadual – Possui seu próprio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reto 9"/>
          <p:cNvSpPr/>
          <p:nvPr/>
        </p:nvSpPr>
        <p:spPr>
          <a:xfrm>
            <a:off x="5715000" y="392904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to 10"/>
          <p:cNvSpPr/>
          <p:nvPr/>
        </p:nvSpPr>
        <p:spPr>
          <a:xfrm>
            <a:off x="5715000" y="1714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reto 13"/>
          <p:cNvSpPr/>
          <p:nvPr/>
        </p:nvSpPr>
        <p:spPr>
          <a:xfrm>
            <a:off x="3071880" y="1643040"/>
            <a:ext cx="0" cy="171468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to 14"/>
          <p:cNvSpPr/>
          <p:nvPr/>
        </p:nvSpPr>
        <p:spPr>
          <a:xfrm>
            <a:off x="3071880" y="385776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ector reto 15"/>
          <p:cNvSpPr/>
          <p:nvPr/>
        </p:nvSpPr>
        <p:spPr>
          <a:xfrm>
            <a:off x="5715000" y="5143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ector reto 17"/>
          <p:cNvSpPr/>
          <p:nvPr/>
        </p:nvSpPr>
        <p:spPr>
          <a:xfrm>
            <a:off x="3071880" y="5143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280" y="304920"/>
          <a:ext cx="8801280" cy="6343560"/>
        </p:xfrm>
        <a:graphic>
          <a:graphicData uri="http://schemas.openxmlformats.org/drawingml/2006/table">
            <a:tbl>
              <a:tblPr/>
              <a:tblGrid>
                <a:gridCol w="1797120"/>
                <a:gridCol w="2317680"/>
                <a:gridCol w="4686480"/>
              </a:tblGrid>
              <a:tr h="198360"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os mínimos para compartilhamento de dados de usuários com os órgaos estaduais para fins de balanço hídric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tos de interferência: Superficial e Subterrân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dor da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a entidade responsável (outorgad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F/CNP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F ou CNPJ da entidade respons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interferência (captação de água superficial, captação de água subterrânea, lançamento de efluentes ou barrag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E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Municí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dade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dade do uso da água associado à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t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us decim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tude do ponto de 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us decim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e do ponto de 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corpo d'água onde está localizada a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do 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do 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do reservatório existente (associado à barrag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³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zão máxima de captação ou de lançamento de efl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³/dia (não seria m3/h ??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diário médio captado ou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por 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e de captação ou de lançamento em horas por 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 por m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e de captação ou de lançamento em dias por m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,mm,mm,mm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es de captação ou lançamento, no formato: 01, 02, 03,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DBO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ósf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fósforo total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ê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Nitrogênio total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ção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ção da outorga (Outorgado, Não outorgável, Em anális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 Outorga/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e ano do documento de outorga (resolução, portaria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final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/mm/aa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e expiração da outorga emitida pelo órgão ges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ão gestor que emitiu a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 Declar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da declaração no sistema original (ex. no CNARH, seria o número da última declaração válid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3800" y="2305080"/>
            <a:ext cx="699444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Retângulo 77"/>
          <p:cNvSpPr/>
          <p:nvPr/>
        </p:nvSpPr>
        <p:spPr>
          <a:xfrm>
            <a:off x="1285920" y="1357200"/>
            <a:ext cx="64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ela de Autenticação do Usu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utenticar o Usuár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tângulo 44"/>
          <p:cNvSpPr/>
          <p:nvPr/>
        </p:nvSpPr>
        <p:spPr>
          <a:xfrm>
            <a:off x="0" y="-14292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460520" y="2019240"/>
            <a:ext cx="6426360" cy="3143160"/>
          </a:xfrm>
          <a:prstGeom prst="rect">
            <a:avLst/>
          </a:prstGeom>
          <a:ln w="0">
            <a:noFill/>
          </a:ln>
        </p:spPr>
      </p:pic>
      <p:sp>
        <p:nvSpPr>
          <p:cNvPr id="116" name="Retângulo 77"/>
          <p:cNvSpPr/>
          <p:nvPr/>
        </p:nvSpPr>
        <p:spPr>
          <a:xfrm>
            <a:off x="1357200" y="932040"/>
            <a:ext cx="64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ela Parametr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Manter  Parametrização de Requisição de Banco de D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1428840" y="2000160"/>
            <a:ext cx="6484680" cy="29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1428840" y="2000160"/>
            <a:ext cx="6429240" cy="29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9:38:44Z</dcterms:created>
  <dc:creator>emerson.ferreira</dc:creator>
  <dc:description/>
  <dc:language>en-US</dc:language>
  <cp:lastModifiedBy>01514602130</cp:lastModifiedBy>
  <dcterms:modified xsi:type="dcterms:W3CDTF">2011-05-30T18:47:34Z</dcterms:modified>
  <cp:revision>161</cp:revision>
  <dc:subject/>
  <dc:title>Slide 1</dc:title>
</cp:coreProperties>
</file>